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490-0D11-405D-919F-8DAA8E25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0FE-18AE-4C6A-84B6-6276BEE8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FD3-18B8-4BB1-AAF7-83C90A24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D90-3F5B-42C7-B711-71119A17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81C-E337-48A5-A838-CA77E0C5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D0B-48A0-48CF-A2E4-8C0D5A5B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79E-4CC9-4A47-8DE3-3A461A2A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B41-D585-4B8D-91A4-9262DB49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F44-A464-4A07-82B9-C099E262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002-6E0C-405D-89B6-F8E0FF0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A39-D51D-4821-908C-09548C84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EEE-8ADC-4BCE-A75D-773B4FA1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EB7A-9F4B-4E68-9C86-3FC7DE30F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Me llamo____________ 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9999"/>
                </a:solidFill>
                <a:latin typeface="Arial"/>
              </a:rPr>
              <a:t>     Clase 6NH La fecha es el 22 de enero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Miras fútbol en la televis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el the parts of the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317484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33526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5486400"/>
            <a:ext cx="22860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5791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971800" y="4724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715000" y="41144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81952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791320" y="49525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5410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3505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472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4572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248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3886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5622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e las respuestas de l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5 (1-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un compañero,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5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Mínimo 5 preguntas y respuestas; escriban en sus cuader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96252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3:46:55Z</dcterms:created>
  <dc:creator>Helen Zumaeta</dc:creator>
  <dc:description/>
  <dc:language>en-US</dc:language>
  <cp:lastModifiedBy>Helen Zumaeta</cp:lastModifiedBy>
  <dcterms:modified xsi:type="dcterms:W3CDTF">2013-01-22T13:30:41Z</dcterms:modified>
  <cp:revision>25</cp:revision>
  <dc:subject/>
  <dc:title>Me llamo____________  Clase 7 IL La fecha es el 4 de noviembre del 2010</dc:title>
</cp:coreProperties>
</file>